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B82-209B-44D0-AAE9-08C0336D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25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B1C-3030-49E3-A792-D9D74477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336-BFCC-453C-A480-D1E571C1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165-5BFA-4B3E-ACE2-7365A85E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D03-F202-41A6-ABFE-B03C950C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D2C-4BBA-4516-BAAA-492A8743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AA5-0CF5-4FC3-ADC1-B72F4E3B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7D7-265E-450B-872F-F0D826A5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301320"/>
            <a:ext cx="82771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5DF-2A11-4355-873C-6071BF2E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26F-1E34-4504-A78B-FF88C907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D4B-253F-4C78-AF4D-AAA231B5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27B-5BFD-427A-916E-21F91A20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1464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3536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5121B-9FDF-46D6-8AEE-E1D52B16EB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345960"/>
            <a:ext cx="828036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6b6b"/>
                </a:solidFill>
                <a:latin typeface="Arial"/>
              </a:rPr>
              <a:t>LUOTTAMUKSELLISUUDEN JA TODENNUKSEN PERUSTEET SEKÄ KERBEROS-TODENNUSPROTOKO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Markus Pakk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odennusperusteiden ongelm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ipäivän todennustilanteet monesti vähän “sinne pä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tava tieto on urkittavissa kohtuullisen help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tava esine voidaan kopioida tai varas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tava ominaisuus voi vaihdella tai sitä ei 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rberos-protokollan taust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yttinen portinvartija esikuvana modernille todennuks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uret MIT:n Project Athen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skustietokoneista siirryttiin tietokoneiden verkkoon, pääsynvalvonta muodostui ongelmak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nusprotokolla syntyi talon sisäisenä projektina koulun omiin tarpeisiin, mutta levisi myös maailmanlaajuiseen käyttöön vapaana ohjelmist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rberoksen tekniset periaattee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57520"/>
            <a:ext cx="8136000" cy="546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ustuu luotetun kolmannen osapuolen malli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ii tai evää pääsyn valvomiinsa resurss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takirjautu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nusviestintä perustuu salattuihin lippu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untoavain osapuolien välisessä kommunikoinn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nen salaus vaki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rberoksen toiminnan perustee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0040"/>
            <a:ext cx="813600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beroksen kolme pää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ennus- ja lippupalvelu = K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rssipalve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äyttäjä ottaa yhteyttä todennuspalveluun ja saa lip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äyttäjä esittää lipun lippupalvelulle, pyytää pääsyä resurssin käyttöön ja saa palvelulip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äyttäjä todentaa itsensä palvelulipulla resurssipalvelimelle ja asioi se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odennuksen kulku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nuspalvelupyyntö AS_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täjä pyytää asiointilupaa lippupalvelu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hdollinen esitodennus tässä vaihe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nuspalveluvastaus AS_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ennuspalvelu muodostaa lipun ja istuntoavaimen ja lähettää ne käyttäjä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odennuksen kulku, jatko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760400"/>
            <a:ext cx="8136000" cy="569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pupalvelupyyntö TGS_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täjä purkaa viestistä istuntoavaimen ja todentaa näin itsens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ähettää todennusviestin ja lipun lippupalvelu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pupalveluvastaus TGS_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pupalvelu purkaa lipusta itselleen istuntoavaimen ja vertailee todennusviestin ja lähettäjän tiet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ennuspalvelu muodostaa palvelulipun ja uuden istuntoavaimen ja lähettää ne käyttäjä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odennuksen kulku, jatko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velluspyyntö AP_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täjä purkaa uuden istuntoavaimen viestis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odostaa uuden todennusviestin ja lähettää sen lipun kanssa resurssipalvelim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vellusvastaus AP_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velin purkaa lipusta istuntoava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taa istuntoavaimella salatulla aikaleimalla ja todentaa näin itsensä käyttäjä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Yleiskuvaus todennustapahtumast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47600" y="1495440"/>
            <a:ext cx="7020000" cy="58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rberoksen tietoturvauh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akirjahyökkäys/brute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man esitodennusta mahdollista keräillä lippuja ja yrittää murtaa salasana off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kaisuna esitodennus, pidemmät avaimet ja uudet salausalgorit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istohyökkä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kosta kaapattua lippua käytetään käyttäjäksi tekeyty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kaisuna osoitekenttä, aikaleima ja toistovälimui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rberoksen tietoturvauhat, jatko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ärehellinen väl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ökkääjä imitoi resurssipalvel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kaisuna keskinäinen toden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Johdanto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toturva asettaa uusia haasteita päivittä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ustiedot ja -työkalut oltava hallu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näytetyön keskeiset ai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don luottamuksellisu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otettava toden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beros-todennusprotok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htävänä ottaa selvää ja raporto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Hyökkäykset Kerberosta vastaan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a toiminnan vaarantavia riske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-oikeuksien haltuunotto KDC-palvelim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-oikeuksien haltuunotto resurssipalvelim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-oikeuksien haltuunotto käyttäjän tietokone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lläpitokäyttäjän salasanan paljastu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beros ei tee verkosta murtovarma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Yhteenveto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kimuksen tulokset kolmessa lause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ottamuksellisuus on tiedon suojaamista ulkopuolisten lukemiselta ja muokkaamise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ennus on osapuolten henkilöllisyyden tai aitouden varmistam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beros on suosittu todennusprotokolla ja hyvä työkalu, mutta ei mikään tietoturvan taikasa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Lähtee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 kirjallisuus, m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man, J. 2003. Kerberos: The Definitive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ärvinen, P. 2002,2003. Tietoturva &amp; yksityisyys; Salausmenetelm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neier, B. 1996. Applied Cryptogra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rov, D. 2007. Mechanics of User Identification and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ähköiset lähteet, m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T Kerberos Consortium. (http://www.kerberos.org/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0360" y="301680"/>
            <a:ext cx="828036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ysyttävää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ilaaj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nor 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ustettu 1997, kotipaikka Ou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timainen internetmediayhti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äätuotteita verkkopalvelut, kuten Laki24.fi ja Kookas (be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ietoturva ja luottamuksellisuu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toturva on tietojenkäsittelyyn kohdistuvien riskien torjum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ottamuksellisuus on tietoturvan osateki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nteinen kolmikanta CIA: Confidentiality, Integrity,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Luottamuksellisuu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don luottamuksellisuus tarkoittaa  käytön rajaamista siihen oikeudet omistavi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ottamuksellinen tieto voi olla mitä tahansa arkaluontoista, esim. palkkatie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ottamuksellisuuden pitämiselle on joko sisäinen tai ulkoinen moti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aus ja todennus liittyvät läheisesti luottamuksellisuu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Salaustekniik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it salaustekniikat jakautuvat kahteen kategori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nen sal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ksi avain salaukseen ja purku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äsymmetrinen sal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ksi avain salaa, toinen avain purk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odennuksen tarkoitu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nuksen tavoite on osapuolten henkilöllisyyden tai aitouden varmista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toturvan muut alueet riippuvat todennuks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ono todennus vie pohjan luottamuksellisuudelta, salaukselta ja lähetysmetodi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todennus on portsari, valtuutus on hovimest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Luotettavan todennuksen perustee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44720" y="1768320"/>
            <a:ext cx="51498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Luotettavan todennukset perusteet, jatko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to, esim. salas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po ja halpa toteutt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ine, esim. kulkukor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leinen ja “perinteikäs” todennusmet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inaisuus, esim. kasvonpiir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hmisen oman todennuksen per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4:35:11Z</dcterms:created>
  <dc:creator>Markus Pakkala</dc:creator>
  <dc:description>Presentation Layout Template</dc:description>
  <dc:language>en-US</dc:language>
  <cp:lastModifiedBy/>
  <cp:revision>1</cp:revision>
  <dc:subject/>
  <dc:title>Rounded Rectangles</dc:title>
</cp:coreProperties>
</file>