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F0AE-9E81-412F-B362-D08E553C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132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2560"/>
            <a:ext cx="8132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ABF-286A-4FA3-A5AD-522519DC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4618-DABE-4D94-B090-28CFC978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2960" y="17679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3000" y="17679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25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2960" y="43725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3000" y="43725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39C6-9167-4457-A3AF-F112E28F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8132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C598-7F85-462D-BA6B-0D92E419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132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E056-77EB-4E2F-B3B3-1478381B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68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767960"/>
            <a:ext cx="3968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6738-E35B-4AE7-BBDA-DA18F793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9F4F-5405-4046-ABE2-6E1A9E26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301320"/>
            <a:ext cx="82771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CF08-B4CF-4025-A144-FEAA37DD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767960"/>
            <a:ext cx="3968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CB78-4B44-47A8-8A79-6C74A1E8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68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317D-09CA-4613-86D7-433F4E52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8132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0DB1-AD0D-498B-AE03-0A042971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8132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1464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3536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D55B7-B996-40A0-8E5E-EBFBEA5342B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0360" y="345960"/>
            <a:ext cx="828036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6b6b"/>
                </a:solidFill>
                <a:latin typeface="Arial"/>
              </a:rPr>
              <a:t>LUOTTAMUKSELLISUUDEN JA TODENNUKSEN PERUSTEET SEKÄ KERBEROS-TODENNUSPROTOKO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Markus Pakk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290520"/>
            <a:ext cx="8280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Todennusperusteiden ongelma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kipäivän todennustilanteet monesti vähän “sinne pä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entava tieto on urkittavissa kohtuullisen help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entava esine voidaan kopioida tai varast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entava ominaisuus voi vaihdella tai sitä ei 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Kerberos-protokollan tausta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yttinen portinvartija esikuvana modernille todennuks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uret MIT:n Project Athena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skustietokoneista siirryttiin tietokoneiden verkkoon, pääsynvalvonta muodostui ongelmak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ennusprotokolla syntyi talon sisäisenä projektina koulun omiin tarpeisiin, mutta levisi myös maailmanlaajuiseen käyttöön vapaana ohjelmist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290520"/>
            <a:ext cx="8280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Kerberoksen tekniset periaattee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757520"/>
            <a:ext cx="8136000" cy="546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ustuu luotetun kolmannen osapuolen malli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lii tai evää pääsyn valvomiinsa resurssei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takirjautu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ennusviestintä perustuu salattuihin lippui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untoavain osapuolien välisessä kommunikoinni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nen salaus vaki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290520"/>
            <a:ext cx="8280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Kerberoksen toiminnan perustee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760040"/>
            <a:ext cx="813600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beroksen kolme päät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ennus- ja lippupalvelu = K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rssipalve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äyttäjä ottaa yhteyttä todennuspalveluun ja saa lip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äyttäjä esittää lipun lippupalvelulle, pyytää pääsyä resurssin käyttöön ja saa palvelulip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äyttäjä todentaa itsensä palvelulipulla resurssipalvelimelle ja asioi sen kan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Todennuksen kulku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ennuspalvelupyyntö AS_RE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äyttäjä pyytää asiointilupaa lippupalvelu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hdollinen esitodennus tässä vaihee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ennuspalveluvastaus AS_R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ennuspalvelu muodostaa lipun ja istuntoavaimen ja lähettää ne käyttäjä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Todennuksen kulku, jatkoa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760400"/>
            <a:ext cx="8136000" cy="569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pupalvelupyyntö TGS_RE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äyttäjä purkaa viestistä istuntoavaimen ja todentaa näin itsens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ähettää todennusviestin ja lipun lippupalvelu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pupalveluvastaus TGS_R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ppupalvelu purkaa lipusta itselleen istuntoavaimen ja vertailee todennusviestin ja lähettäjän tiet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ennuspalvelu muodostaa palvelulipun ja uuden istuntoavaimen ja lähettää ne käyttäjä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Todennuksen kulku, jatkoa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13600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velluspyyntö AP_RE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äyttäjä purkaa uuden istuntoavaimen viestist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odostaa uuden todennusviestin ja lähettää sen lipun kanssa resurssipalvelim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vellusvastaus AP_R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velin purkaa lipusta istuntoava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taa istuntoavaimella salatulla aikaleimalla ja todentaa näin itsensä käyttäjä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0000" y="290520"/>
            <a:ext cx="8280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Yleiskuvaus todennustapahtumasta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13600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047600" y="1495440"/>
            <a:ext cx="7020000" cy="58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Kerberoksen tietoturvauha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1360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akirjahyökkäys/brute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man esitodennusta mahdollista keräillä lippuja ja yrittää murtaa salasana off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kaisuna esitodennus, pidemmät avaimet ja uudet salausalgorit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istohyökkä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kosta kaapattua lippua käytetään käyttäjäksi tekeyty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kaisuna osoitekenttä, aikaleima ja toistovälimui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0000" y="290520"/>
            <a:ext cx="8280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Kerberoksen tietoturvauhat, jatkoa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ärehellinen väl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ökkääjä imitoi resurssipalveli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kaisuna keskinäinen toden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Johdanto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toturva asettaa uusia haasteita päivittä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ustiedot ja -työkalut oltava hallu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näytetyön keskeiset aihe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don luottamuksellisu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otettava toden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beros-todennusprotoko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htävänä ottaa selvää ja raporto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0000" y="290520"/>
            <a:ext cx="8280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Hyökkäykset Kerberosta vastaan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544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a toiminnan vaarantavia riske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-oikeuksien haltuunotto KDC-palvelim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-oikeuksien haltuunotto resurssipalvelim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-oikeuksien haltuunotto käyttäjän tietokone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lläpitokäyttäjän salasanan paljastum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beros ei tee verkosta murtovarma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Yhteenveto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kimuksen tulokset kolmessa lausee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ottamuksellisuus on tiedon suojaamista ulkopuolisten lukemiselta ja muokkaamise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ennus on osapuolten henkilöllisyyden tai aitouden varmistam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beros on suosittu todennusprotokolla ja hyvä työkalu, mutta ei mikään tietoturvan taikasau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Lähtee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13600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n kirjallisuus, m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man, J. 2003. Kerberos: The Definitive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ärvinen, P. 2002,2003. Tietoturva &amp; yksityisyys; Salausmenetelm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neier, B. 1996. Applied Cryptograp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rov, D. 2007. Mechanics of User Identification and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ähköiset lähteet, m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T Kerberos Consortium. (http://www.kerberos.org/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0360" y="301680"/>
            <a:ext cx="828036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ysyttävää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Tilaaja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nor 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ustettu 1997, kotipaikka Ou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timainen internetmediayhti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äätuotteita verkkopalvelut, kuten Laki24.fi ja Kookas (be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290520"/>
            <a:ext cx="8280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Tietoturva ja luottamuksellisuus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toturva on tietojenkäsittelyyn kohdistuvien riskien torjum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ottamuksellisuus on tietoturvan osateki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nteinen kolmikanta CIA: Confidentiality, Integrity,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Luottamuksellisuus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don luottamuksellisuus tarkoittaa  käytön rajaamista siihen oikeudet omistavi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ottamuksellinen tieto voi olla mitä tahansa arkaluontoista, esim. palkkatied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ottamuksellisuuden pitämiselle on joko sisäinen tai ulkoinen moti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aus ja todennus liittyvät läheisesti luottamuksellisuu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Salaustekniika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it salaustekniikat jakautuvat kahteen kategori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nen sal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ksi avain salaukseen ja purku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äsymmetrinen sal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ksi avain salaa, toinen avain purk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Todennuksen tarkoitus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ennuksen tavoite on osapuolten henkilöllisyyden tai aitouden varmista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toturvan muut alueet riippuvat todennuks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ono todennus vie pohjan luottamuksellisuudelta, salaukselta ja lähetysmetodi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todennus on portsari, valtuutus on hovimest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000" y="290520"/>
            <a:ext cx="8280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Luotettavan todennuksen perustee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944720" y="1768320"/>
            <a:ext cx="514980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" y="290520"/>
            <a:ext cx="8280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Luotettavan todennukset perusteet, jatkoa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to, esim. salas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po ja halpa toteutt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ine, esim. kulkukor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leinen ja “perinteikäs” todennusmeto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inaisuus, esim. kasvonpiir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hmisen oman todennuksen peru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4:35:11Z</dcterms:created>
  <dc:creator>Markus Pakkala</dc:creator>
  <dc:description>Presentation Layout Template</dc:description>
  <dc:language>en-US</dc:language>
  <cp:lastModifiedBy/>
  <cp:revision>1</cp:revision>
  <dc:subject/>
  <dc:title>Rounded Rectangles</dc:title>
</cp:coreProperties>
</file>